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F56-B75D-4E74-9E22-3254D46D06D3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A320-4961-43C4-B838-2CDD7CCFB25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611-6D09-4865-BF4F-CC3767A0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1AF-0701-4B77-9E28-56A188E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6D8-35AA-4CAA-9FA8-E4DD8A41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BB6-01A9-423B-B3D3-E0F10861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06DF-DC0C-4226-B023-C63B8F08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497E-82B6-4A45-AFC8-3977B6DC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68E-6B03-4B26-A0CA-5CF83C14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C8B-EAAE-4FB5-B1ED-DDBC26C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1887-F7DF-4CF5-AF2A-ADEE4A25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3E0-968B-403D-9CD4-1E52AAE2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9037-6A14-432D-BBCD-B14BD5B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21F-55E2-4074-B64E-D43B094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C36D-25EB-473D-A9FB-A8CDF0E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67C0-C58A-486D-B2CA-8129A9C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55F-227C-4791-80B8-33CB854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98A5-AA88-4B9D-A965-283FE83B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2CD8-5CCF-4A69-8FC4-0C4B6A82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81A-ECC5-4E8A-ABBF-8F1865A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D80-BBDC-4C87-93E6-603CA71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520-6AD0-4194-A556-D2FF7D2C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DCA-6FCF-4365-BC4E-436AAC5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E03-B72A-4093-A677-F62F23F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B12-08EB-4F9A-9843-84B0EC71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3FD-D690-446F-8D94-3B282DE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479C-C9C7-454D-A30F-46942EEC1B62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094-0B4F-48A2-A639-947DB9414243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D000-A279-4C9D-B64A-E51057059C24}" type="datetime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883C-0D29-43F0-A78D-06C360F13AE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rriorsofthe.net/" TargetMode="External"/><Relationship Id="rId2" Type="http://schemas.openxmlformats.org/officeDocument/2006/relationships/hyperlink" Target="http://www.warriorsofthe.net/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thensbar.gr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1619280" y="189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ocational School of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00720" y="594216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oanna Tseling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Teacher of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ias Vergini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Teacher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341360"/>
            <a:ext cx="68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aching Computer Science through English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27280" y="3284640"/>
            <a:ext cx="3024360" cy="1995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81280" y="3357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o Pro Smbd"/>
              </a:rPr>
              <a:t>What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no Pro Smbd"/>
              </a:rPr>
              <a:t>the Inter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3745080" cy="258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384480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211640" y="3789360"/>
            <a:ext cx="3745080" cy="25876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33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3673440" cy="25974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673440" cy="2595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211640" y="907920"/>
            <a:ext cx="3673440" cy="2575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673440" cy="25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3673440" cy="259272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49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673440" cy="2595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211640" y="765000"/>
            <a:ext cx="3630600" cy="2565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4325760" y="3789360"/>
            <a:ext cx="35593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64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50920" y="62064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ocabulary matching exerci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Engl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 are asked to match the words they have been exposed to in the previous stage to their defini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3760" y="182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745080" cy="5300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788000" y="1584360"/>
            <a:ext cx="3744720" cy="522936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7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24000" y="2309760"/>
            <a:ext cx="84960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st Video view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English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watch an English vide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led: “The Warriors of the N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ore information about the video is available at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hlinkClick r:id="rId1"/>
              </a:rPr>
              <a:t>www.warriorsofthe.net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hlinkClick r:id="rId2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fill in a diagram with the appropriate words giv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agram concerns a request for a specific web-site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a Web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s are asked to do a gap-filling exercise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. 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y have to put the verbs given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Present Simple Passive Voice in order to describe the process mentioned in the vide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90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132000" y="62064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68360" y="614520"/>
            <a:ext cx="2087640" cy="17334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5796000" y="90792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3156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897360" cy="46404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06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324000" y="2016360"/>
            <a:ext cx="849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ideo viewing: (with English subtitles created by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read some statements and guess whether they are True or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they watch the video for the second time The video is paused at specific points so that Ss verify their answers to the questions of the corresponding video se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1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50920" y="1545480"/>
            <a:ext cx="85932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t-Viewing activity: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get into groups in order to solve the following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John is in the school computer lab and wants to find the address of a local bar. He types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Comic Sans MS"/>
                <a:ea typeface="Times New Roman"/>
                <a:hlinkClick r:id="rId1"/>
              </a:rPr>
              <a:t>www.athensbar.gr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a Web browser. He clicks on the requested link and receives the following message: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cess to the requested site is forbidden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happened? Describe and design the journey of the IP packets from the moment John made his request. How far have these packets trave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has blocked their access to the requested sit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30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250920" y="218664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t-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s take a post-test so that T can assess their progres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ctually, they retake the pre-test in order to measure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ition of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342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2050920" y="260280"/>
            <a:ext cx="44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84360" y="1052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ea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726840" y="1622520"/>
            <a:ext cx="12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ve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59520" y="2708280"/>
            <a:ext cx="75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r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4 teaching hours (Only Stages 1-5 were complet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95280" y="30751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116000" y="3933720"/>
            <a:ext cx="7524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husi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 involvement / participation  in meaningful  inter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tant attempt to relate their personal experiences with the introduced concept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747000" y="3500280"/>
            <a:ext cx="27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dents’ reaction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14960" y="2198520"/>
            <a:ext cx="23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mber of 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8"/>
          <p:cNvSpPr/>
          <p:nvPr/>
        </p:nvSpPr>
        <p:spPr>
          <a:xfrm>
            <a:off x="545040" y="486900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 Lev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2-B1  (Mixed Ability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1280" y="559584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t Lev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dequately skilled in using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exchanging Information through the Intern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3573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ming at enhancing the teaching and the learning process concerning the basic characteristics of the Interne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4000" y="15573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on bas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039920" y="1052640"/>
            <a:ext cx="41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hentic Audiovisu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163040" y="19162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ar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27280" y="126792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27280" y="1773360"/>
            <a:ext cx="15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421000"/>
            <a:ext cx="576000" cy="647640"/>
          </a:xfrm>
          <a:prstGeom prst="downArrow">
            <a:avLst>
              <a:gd name="adj1" fmla="val 50000"/>
              <a:gd name="adj2" fmla="val 2810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2462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Computer Science through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395280" y="62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1280" y="1700280"/>
            <a:ext cx="752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consuming preparation of educational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ing authentic material  to Ss’ 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 skepticism about the new form of classroom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estimating  the  duration of 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actical problems like school  timetabl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ailability of computer l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11040" y="11253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achers’ challeng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050920" y="260280"/>
            <a:ext cx="4464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2"/>
          <p:cNvSpPr/>
          <p:nvPr/>
        </p:nvSpPr>
        <p:spPr>
          <a:xfrm>
            <a:off x="133200" y="206064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annot teach a language, only crea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nditions under which it might be  lear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n Humboldt  1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nly way to do great work is to love what you d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638360" y="2924280"/>
            <a:ext cx="588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 for your Attention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68360" y="18435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omprehension of the Data Exchange process through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37560" y="3068640"/>
            <a:ext cx="6935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Internet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happens when you click on a link of a webp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information travel to its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403280" y="2462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1368360" cy="603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235600" y="18900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rning 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0920" y="13406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y the end of this lesson Ss will be able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8360" y="1977840"/>
            <a:ext cx="8280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gniz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different devices and protocols that are used  in the data exchange process through the Internet in Greek and in Engl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plai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ow the reliability of the data exchange through the Internet is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characteristics of a Local Area Network (LAN) and the World Wide Web (ww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dentif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main functions of specific devices (e.g. Router, Proxy Server) and programs (e.g. Firewall, Web-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he data exchange  process through the Internet by using Passive Voice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95280" y="260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use English to teach new concepts in Computer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2276640"/>
            <a:ext cx="89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eak the traditional teaching rout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- get off the beate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tiv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s to use English in order to acquire knowledge in Computer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cou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s to participate actively in the teaching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principles of cross- curricular teaching  / CL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541880" y="191628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tent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gua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080360" y="284652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041440" y="2846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3313080" y="2990880"/>
            <a:ext cx="1297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11280" y="37422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I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fers to situations where subjects or parts of subjects are taught through a foreign language with dual-focused aims, namely the learning of content, and the simultaneous learning for a foreign langua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017120" y="501336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sh, D.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95280" y="260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use English to teach new concepts in Computer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9640" y="179928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-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n Greek). Ss are encouraged to think about and discuss the way information and data are requested and acquired through the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468360" y="357336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2: Pre-t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(in Greek). Ss take a pre-test  so that T  checks their previous knowledge concerning the exchange of data through 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3080" y="135000"/>
            <a:ext cx="158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tages 1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192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108000" y="1557360"/>
            <a:ext cx="903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tal service / Intern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storming – Comparison of the two processes (in Greek/Engli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owerpoint presentation shown to Ss in Greek to highlight the similarities of the  two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04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cc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5920" y="1587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00" y="549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211640" y="693720"/>
            <a:ext cx="3745080" cy="2709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816360" cy="27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211640" y="3575160"/>
            <a:ext cx="3745080" cy="267336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076720" y="189000"/>
            <a:ext cx="2806920" cy="288720"/>
            <a:chOff x="5076720" y="189000"/>
            <a:chExt cx="2806920" cy="288720"/>
          </a:xfrm>
        </p:grpSpPr>
        <p:sp>
          <p:nvSpPr>
            <p:cNvPr id="218" name=""/>
            <p:cNvSpPr/>
            <p:nvPr/>
          </p:nvSpPr>
          <p:spPr>
            <a:xfrm>
              <a:off x="507672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708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97440" y="189000"/>
              <a:ext cx="287280" cy="288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81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7708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3744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6360" y="189000"/>
              <a:ext cx="2872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79280" y="692280"/>
            <a:ext cx="3816360" cy="26971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6:23Z</dcterms:created>
  <dc:creator>3rd EPAL</dc:creator>
  <dc:description/>
  <dc:language>en-US</dc:language>
  <cp:lastModifiedBy>Ilias_Desktop</cp:lastModifiedBy>
  <dcterms:modified xsi:type="dcterms:W3CDTF">2012-07-12T20:56:52Z</dcterms:modified>
  <cp:revision>46</cp:revision>
  <dc:subject/>
  <dc:title>Διαφάνεια 1</dc:title>
</cp:coreProperties>
</file>